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12.jpeg" ContentType="image/jpeg"/>
  <Override PartName="/ppt/media/image6.wmf" ContentType="image/x-wmf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3E97-B884-4C4E-ADA2-399C7B754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519A-F3C4-4A6D-9FF0-38A5F593E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7399-BD58-4774-B0B2-DCFBC5F15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A45C-0864-4D17-8185-A1F33CA1B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14D6-2C31-4012-AAFF-C66E69B4D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9161-5B55-4481-BF43-68A6D9969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43CF-886F-4931-8A36-80C60BDBB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265B-8B79-4722-B00F-EF84BAFE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3041-390B-4068-AEA4-71B548AAE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6B56-94F4-48AA-8634-89D95B7A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7CAB-FC52-4D79-80C3-5CAD8542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A6D5-BC88-4EB7-8CC8-0C485082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6614E-D51F-4750-B4DE-636CA27CF97D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"/>
          <p:cNvSpPr/>
          <p:nvPr/>
        </p:nvSpPr>
        <p:spPr>
          <a:xfrm>
            <a:off x="522360" y="461880"/>
            <a:ext cx="7848360" cy="57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AJUSTE FINO” ZONAS CON LIMITACIONES NATU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EXTREMADURA</a:t>
            </a:r>
            <a:r>
              <a:rPr b="0" lang="es-ES" sz="4400" spc="-1" strike="noStrike">
                <a:solidFill>
                  <a:srgbClr val="000000"/>
                </a:solidFill>
                <a:latin typeface="Arial Narrow"/>
                <a:ea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 Narrow"/>
                <a:ea typeface="Tahoma"/>
              </a:rPr>
              <a:t>COMITÉ DE SEGUIMIE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 Narrow"/>
                <a:ea typeface="Tahoma"/>
              </a:rPr>
              <a:t>PDR EXTREMADURA 2014-2022</a:t>
            </a:r>
            <a:r>
              <a:rPr b="1" lang="pl-PL" sz="4400" spc="-1" strike="noStrike">
                <a:solidFill>
                  <a:srgbClr val="000000"/>
                </a:solidFill>
                <a:latin typeface="Arial Narrow"/>
                <a:ea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  <a:ea typeface="Tahoma"/>
              </a:rPr>
              <a:t>20 junio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" name=""/>
          <p:cNvGraphicFramePr/>
          <p:nvPr/>
        </p:nvGraphicFramePr>
        <p:xfrm>
          <a:off x="2317680" y="2062080"/>
          <a:ext cx="4257720" cy="3803760"/>
        </p:xfrm>
        <a:graphic>
          <a:graphicData uri="http://schemas.openxmlformats.org/drawingml/2006/table">
            <a:tbl>
              <a:tblPr/>
              <a:tblGrid>
                <a:gridCol w="1330560"/>
                <a:gridCol w="2927160"/>
              </a:tblGrid>
              <a:tr h="760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VIN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UNICIP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90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cede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rist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on Beni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Guadi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Guareñ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anchi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edellí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engabr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ueblonuevo del Guadi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anta Amal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Valdelacal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Valdetor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Villanueva de la Sere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Villar de Re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Rectángulo 3"/>
          <p:cNvSpPr/>
          <p:nvPr/>
        </p:nvSpPr>
        <p:spPr>
          <a:xfrm>
            <a:off x="1003320" y="1057320"/>
            <a:ext cx="729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ieciséis municipios que en el período 2007 –2013, no reunían la consideración de desfavorecidos por despoblamiento, </a:t>
            </a:r>
            <a:r>
              <a:rPr b="1" lang="es-ES" sz="18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pasan a tener la consideración de ZONAS CON LIMITACIONES NATURALES SIGNIFIC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0" y="0"/>
            <a:ext cx="9144000" cy="444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8 Rectángulo"/>
          <p:cNvSpPr/>
          <p:nvPr/>
        </p:nvSpPr>
        <p:spPr>
          <a:xfrm>
            <a:off x="0" y="0"/>
            <a:ext cx="914400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ZONAS DISTINTAS DE LAS DE MONTAÑA CON LIMITACIONES NATURALES SIGNIFIC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2"/>
          <p:cNvSpPr/>
          <p:nvPr/>
        </p:nvSpPr>
        <p:spPr>
          <a:xfrm>
            <a:off x="0" y="606600"/>
            <a:ext cx="4211640" cy="36828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. AJUSTE GRU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sp>
        <p:nvSpPr>
          <p:cNvPr id="87" name="Rectángulo 3"/>
          <p:cNvSpPr/>
          <p:nvPr/>
        </p:nvSpPr>
        <p:spPr>
          <a:xfrm>
            <a:off x="923760" y="1197000"/>
            <a:ext cx="729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is municipios que en el período 2007 –2013, reunían la consideración de desfavorecidos, </a:t>
            </a:r>
            <a:r>
              <a:rPr b="1" lang="es-ES" sz="18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pasan a tener la consideración de ZONAS ORDINA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"/>
          <p:cNvSpPr/>
          <p:nvPr/>
        </p:nvSpPr>
        <p:spPr>
          <a:xfrm>
            <a:off x="0" y="0"/>
            <a:ext cx="9144000" cy="444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8 Rectángulo"/>
          <p:cNvSpPr/>
          <p:nvPr/>
        </p:nvSpPr>
        <p:spPr>
          <a:xfrm>
            <a:off x="0" y="0"/>
            <a:ext cx="914400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ZONAS DISTINTAS DE LAS DE MONTAÑA CON LIMITACIONES NATURALES SIGNIFIC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2"/>
          <p:cNvSpPr/>
          <p:nvPr/>
        </p:nvSpPr>
        <p:spPr>
          <a:xfrm>
            <a:off x="0" y="606600"/>
            <a:ext cx="4211640" cy="36828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. AJUSTE GRU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981080" y="2876400"/>
          <a:ext cx="4748400" cy="2054520"/>
        </p:xfrm>
        <a:graphic>
          <a:graphicData uri="http://schemas.openxmlformats.org/drawingml/2006/table">
            <a:tbl>
              <a:tblPr/>
              <a:tblGrid>
                <a:gridCol w="2327400"/>
                <a:gridCol w="2421000"/>
              </a:tblGrid>
              <a:tr h="2937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VIN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UNICIP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937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ÁCE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asatej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ÁCE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ajad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ÁCE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Pueblonuevo de Miramo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ÁCE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Rosale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ÁCE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Talayue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ÁCE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Tié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"/>
          <p:cNvSpPr/>
          <p:nvPr/>
        </p:nvSpPr>
        <p:spPr>
          <a:xfrm>
            <a:off x="0" y="0"/>
            <a:ext cx="9144000" cy="444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8 Rectángulo"/>
          <p:cNvSpPr/>
          <p:nvPr/>
        </p:nvSpPr>
        <p:spPr>
          <a:xfrm>
            <a:off x="0" y="0"/>
            <a:ext cx="914400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ZONAS DISTINTAS DE LAS DE MONTAÑA CON LIMITACIONES NATURALES SIGNIFIC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2"/>
          <p:cNvSpPr/>
          <p:nvPr/>
        </p:nvSpPr>
        <p:spPr>
          <a:xfrm>
            <a:off x="0" y="606600"/>
            <a:ext cx="4211640" cy="36828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. AJUSTE F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ángulo 5"/>
          <p:cNvSpPr/>
          <p:nvPr/>
        </p:nvSpPr>
        <p:spPr>
          <a:xfrm>
            <a:off x="439560" y="1671480"/>
            <a:ext cx="8336160" cy="45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 proponen distintos métodos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versiones que podrían considerarse en frente al criterio de aridez (regadío, invernader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ctividad económica. Producción stand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ndimiento medio de un cultivo domin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arga ganad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ultivos permanentes / densidad de árb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ductividad normal de la tier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istema agrarios y métodos de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ángulo 6"/>
          <p:cNvSpPr/>
          <p:nvPr/>
        </p:nvSpPr>
        <p:spPr>
          <a:xfrm>
            <a:off x="314280" y="1000080"/>
            <a:ext cx="858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Documento (07/2016) Ajuste fino para limitaciones naturales y específicas significativ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" name=""/>
          <p:cNvGraphicFramePr/>
          <p:nvPr/>
        </p:nvGraphicFramePr>
        <p:xfrm>
          <a:off x="2097000" y="4282920"/>
          <a:ext cx="6562800" cy="1920960"/>
        </p:xfrm>
        <a:graphic>
          <a:graphicData uri="http://schemas.openxmlformats.org/drawingml/2006/table">
            <a:tbl>
              <a:tblPr/>
              <a:tblGrid>
                <a:gridCol w="878040"/>
                <a:gridCol w="2143080"/>
                <a:gridCol w="830160"/>
                <a:gridCol w="976320"/>
                <a:gridCol w="939960"/>
                <a:gridCol w="795240"/>
              </a:tblGrid>
              <a:tr h="4266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unicip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up. Total (Km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AU_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up regadí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 regadio &gt; 7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1348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edellí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4,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.563,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.334,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3,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uebla de la Calz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4,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00,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05,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8,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,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14,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41,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5,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anta Amal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3,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.117,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.695,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6,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Villar de Re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2,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.994,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.290,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8,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Valdelacalz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1,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974,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838,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3,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ueblonuevo del Guadi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8,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.043,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606,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8,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Rectangle 2"/>
          <p:cNvSpPr/>
          <p:nvPr/>
        </p:nvSpPr>
        <p:spPr>
          <a:xfrm>
            <a:off x="444600" y="591120"/>
            <a:ext cx="82548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 ha utilizado el ajuste de las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uperficies de regadío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entendiendo que es un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istema agrícola de explotación diferenciado, posibilita la existencia de cultivos y producciones muy superiores a las superficies de secano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de modo que el rendimiento económico obtenido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ermite considerar superadas las limitaciones naturales exist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n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as simulaciones efectuadas 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 la designación de las zonas con limitaciones naturales significativas tras el ajuste de las superficies de regadío, existen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is municipios en los que su superficie agrícola de regadío no cumple los umbrales mínimos de los criterios empleados en la delimitación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 La relación de municipios que quedarían excluidos de las zonas con limitaciones naturales son (% SAU superior al 70%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"/>
          <p:cNvSpPr/>
          <p:nvPr/>
        </p:nvSpPr>
        <p:spPr>
          <a:xfrm>
            <a:off x="0" y="0"/>
            <a:ext cx="9144000" cy="444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8 Rectángulo"/>
          <p:cNvSpPr/>
          <p:nvPr/>
        </p:nvSpPr>
        <p:spPr>
          <a:xfrm>
            <a:off x="0" y="0"/>
            <a:ext cx="914400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ZONAS DISTINTAS DE LAS DE MONTAÑA CON LIMITACIONES NATURALES SIGNIFIC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2"/>
          <p:cNvSpPr/>
          <p:nvPr/>
        </p:nvSpPr>
        <p:spPr>
          <a:xfrm>
            <a:off x="0" y="4630680"/>
            <a:ext cx="1828800" cy="64260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. AJUSTE F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pic>
        <p:nvPicPr>
          <p:cNvPr id="105" name="Imagen 2" descr=""/>
          <p:cNvPicPr/>
          <p:nvPr/>
        </p:nvPicPr>
        <p:blipFill>
          <a:blip r:embed="rId2"/>
          <a:stretch/>
        </p:blipFill>
        <p:spPr>
          <a:xfrm>
            <a:off x="1125360" y="0"/>
            <a:ext cx="6643800" cy="6140520"/>
          </a:xfrm>
          <a:prstGeom prst="rect">
            <a:avLst/>
          </a:prstGeom>
          <a:ln w="0">
            <a:noFill/>
          </a:ln>
        </p:spPr>
      </p:pic>
      <p:pic>
        <p:nvPicPr>
          <p:cNvPr id="106" name="Imagen 4" descr=""/>
          <p:cNvPicPr/>
          <p:nvPr/>
        </p:nvPicPr>
        <p:blipFill>
          <a:blip r:embed="rId3"/>
          <a:stretch/>
        </p:blipFill>
        <p:spPr>
          <a:xfrm>
            <a:off x="6664320" y="401760"/>
            <a:ext cx="1266840" cy="1095120"/>
          </a:xfrm>
          <a:prstGeom prst="rect">
            <a:avLst/>
          </a:prstGeom>
          <a:ln w="0">
            <a:noFill/>
          </a:ln>
        </p:spPr>
      </p:pic>
      <p:sp>
        <p:nvSpPr>
          <p:cNvPr id="107" name="CuadroTexto 5"/>
          <p:cNvSpPr/>
          <p:nvPr/>
        </p:nvSpPr>
        <p:spPr>
          <a:xfrm>
            <a:off x="7091280" y="627120"/>
            <a:ext cx="13226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 Narrow"/>
                <a:ea typeface="Arial"/>
              </a:rPr>
              <a:t>ZONA ORDINAR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uadroTexto 6"/>
          <p:cNvSpPr/>
          <p:nvPr/>
        </p:nvSpPr>
        <p:spPr>
          <a:xfrm>
            <a:off x="7091280" y="841320"/>
            <a:ext cx="15843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 Narrow"/>
                <a:ea typeface="Arial"/>
              </a:rPr>
              <a:t>ZONA LIMITACIONES MONTAÑ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CuadroTexto 7"/>
          <p:cNvSpPr/>
          <p:nvPr/>
        </p:nvSpPr>
        <p:spPr>
          <a:xfrm>
            <a:off x="7080120" y="1068480"/>
            <a:ext cx="18147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 Narrow"/>
                <a:ea typeface="Arial"/>
              </a:rPr>
              <a:t>ZONA LIMITACIONES ESPECÍFIC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CuadroTexto 8"/>
          <p:cNvSpPr/>
          <p:nvPr/>
        </p:nvSpPr>
        <p:spPr>
          <a:xfrm>
            <a:off x="7091280" y="1282680"/>
            <a:ext cx="1584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 Narrow"/>
                <a:ea typeface="Arial"/>
              </a:rPr>
              <a:t>ZONA LIMITACIONES NATURA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CuadroTexto 9"/>
          <p:cNvSpPr/>
          <p:nvPr/>
        </p:nvSpPr>
        <p:spPr>
          <a:xfrm>
            <a:off x="5997600" y="4983120"/>
            <a:ext cx="28972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XTREMAD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Z. L. 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DELIMITACIÓN AC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2"/>
          <p:cNvSpPr/>
          <p:nvPr/>
        </p:nvSpPr>
        <p:spPr>
          <a:xfrm>
            <a:off x="0" y="3619440"/>
            <a:ext cx="1838160" cy="36828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82"/>
          <p:cNvSpPr/>
          <p:nvPr/>
        </p:nvSpPr>
        <p:spPr>
          <a:xfrm>
            <a:off x="0" y="3619440"/>
            <a:ext cx="1838160" cy="64260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. AJUSTE GRU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1" descr=""/>
          <p:cNvPicPr/>
          <p:nvPr/>
        </p:nvPicPr>
        <p:blipFill>
          <a:blip r:embed="rId2"/>
          <a:stretch/>
        </p:blipFill>
        <p:spPr>
          <a:xfrm>
            <a:off x="2405160" y="1236600"/>
            <a:ext cx="4878360" cy="4689360"/>
          </a:xfrm>
          <a:prstGeom prst="rect">
            <a:avLst/>
          </a:prstGeom>
          <a:ln w="0">
            <a:noFill/>
          </a:ln>
        </p:spPr>
      </p:pic>
      <p:sp>
        <p:nvSpPr>
          <p:cNvPr id="116" name="CuadroTexto 3"/>
          <p:cNvSpPr/>
          <p:nvPr/>
        </p:nvSpPr>
        <p:spPr>
          <a:xfrm>
            <a:off x="0" y="279360"/>
            <a:ext cx="37735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XTREMAD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Z. L. 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DELIMITACIÓN 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AJUSTE GRU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Imagen 3" descr=""/>
          <p:cNvPicPr/>
          <p:nvPr/>
        </p:nvPicPr>
        <p:blipFill>
          <a:blip r:embed="rId1"/>
          <a:stretch/>
        </p:blipFill>
        <p:spPr>
          <a:xfrm>
            <a:off x="0" y="6278400"/>
            <a:ext cx="8894880" cy="597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"/>
          <p:cNvGraphicFramePr/>
          <p:nvPr/>
        </p:nvGraphicFramePr>
        <p:xfrm>
          <a:off x="874800" y="1703520"/>
          <a:ext cx="7386480" cy="2468520"/>
        </p:xfrm>
        <a:graphic>
          <a:graphicData uri="http://schemas.openxmlformats.org/drawingml/2006/table">
            <a:tbl>
              <a:tblPr/>
              <a:tblGrid>
                <a:gridCol w="3371760"/>
                <a:gridCol w="2008080"/>
                <a:gridCol w="2006640"/>
              </a:tblGrid>
              <a:tr h="5439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ZO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RÍODO 2007 - 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RÍODO 2014 -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98920"/>
                          <a:tab algn="r" pos="53989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unicipios en zonas de montañ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unicipios en zonas con limitaciones naturales significativ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0000"/>
                          </a:solidFill>
                          <a:latin typeface="Arial Narrow"/>
                          <a:ea typeface="Times New Roman"/>
                        </a:rPr>
                        <a:t>2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unicipios en zonas con limitaciones específic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unicipios sin limita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0000"/>
                          </a:solidFill>
                          <a:latin typeface="Arial Narrow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 MUNICIP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Rectangle 1"/>
          <p:cNvSpPr/>
          <p:nvPr/>
        </p:nvSpPr>
        <p:spPr>
          <a:xfrm>
            <a:off x="-4680" y="0"/>
            <a:ext cx="9144000" cy="444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8 Rectángulo"/>
          <p:cNvSpPr/>
          <p:nvPr/>
        </p:nvSpPr>
        <p:spPr>
          <a:xfrm>
            <a:off x="0" y="-1440"/>
            <a:ext cx="914400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ZONAS DISTINTAS DE LAS DE MONTAÑA CON LIMITACIONES NATURALES SIGNIFIC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2"/>
          <p:cNvSpPr/>
          <p:nvPr/>
        </p:nvSpPr>
        <p:spPr>
          <a:xfrm>
            <a:off x="0" y="922320"/>
            <a:ext cx="4921200" cy="36828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. AJUSTE GRUESO_AJUSTE F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ángulo 6"/>
          <p:cNvSpPr/>
          <p:nvPr/>
        </p:nvSpPr>
        <p:spPr>
          <a:xfrm>
            <a:off x="326880" y="3975120"/>
            <a:ext cx="88124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rial Narrow"/>
                <a:ea typeface="Arial"/>
              </a:rPr>
              <a:t>Respecto de los beneficiarios de las zonas que ya no sean subvencionables como consecuencia de la nueva delimitación a que se refiere el artículo 32, apartado 3, </a:t>
            </a:r>
            <a:r>
              <a:rPr b="1" i="1" lang="es-ES" sz="1600" spc="-1" strike="noStrike">
                <a:solidFill>
                  <a:srgbClr val="ff0000"/>
                </a:solidFill>
                <a:latin typeface="Arial Narrow"/>
                <a:ea typeface="Arial"/>
              </a:rPr>
              <a:t>dichos pagos serán </a:t>
            </a:r>
            <a:r>
              <a:rPr b="1" i="1" lang="es-ES" sz="1600" spc="-1" strike="noStrike" u="sng">
                <a:solidFill>
                  <a:srgbClr val="ff0000"/>
                </a:solidFill>
                <a:uFillTx/>
                <a:latin typeface="Arial Narrow"/>
                <a:ea typeface="Arial"/>
              </a:rPr>
              <a:t>decrecientes</a:t>
            </a:r>
            <a:r>
              <a:rPr b="1" i="1" lang="es-ES" sz="1600" spc="-1" strike="noStrike">
                <a:solidFill>
                  <a:srgbClr val="ff0000"/>
                </a:solidFill>
                <a:latin typeface="Arial Narrow"/>
                <a:ea typeface="Arial"/>
              </a:rPr>
              <a:t> durante un período máximo de cuatro años.</a:t>
            </a:r>
            <a:r>
              <a:rPr b="0" i="1" lang="es-ES" sz="1600" spc="-1" strike="noStrike">
                <a:solidFill>
                  <a:srgbClr val="000000"/>
                </a:solidFill>
                <a:latin typeface="Arial Narrow"/>
                <a:ea typeface="Arial"/>
              </a:rPr>
              <a:t> Dicho período se contará a partir de la fecha en que se haya completado la delimitación con arreglo al artículo 33, apartado 3, y a más tardar en 2018. Los pagos empezarán con un máximo del 80 % del promedio del pago que se fije en el programa para el período de programación 2007-2013 de conformidad con el artículo 36, letra a), inciso ii) del Reglamento (CE) n o 1698/2005, y finalizarán en 2020 a más tardar con un máximo del 20 %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Imagen 3" descr=""/>
          <p:cNvPicPr/>
          <p:nvPr/>
        </p:nvPicPr>
        <p:blipFill>
          <a:blip r:embed="rId1"/>
          <a:stretch/>
        </p:blipFill>
        <p:spPr>
          <a:xfrm>
            <a:off x="0" y="6261120"/>
            <a:ext cx="8894880" cy="5968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"/>
          <p:cNvSpPr/>
          <p:nvPr/>
        </p:nvSpPr>
        <p:spPr>
          <a:xfrm>
            <a:off x="522360" y="461880"/>
            <a:ext cx="7848360" cy="57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  <a:ea typeface="Tahoma"/>
              </a:rPr>
              <a:t>FI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  <a:ea typeface="Tahoma"/>
              </a:rPr>
              <a:t>PRES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Rectángulo 2"/>
          <p:cNvSpPr/>
          <p:nvPr/>
        </p:nvSpPr>
        <p:spPr>
          <a:xfrm>
            <a:off x="420840" y="557280"/>
            <a:ext cx="82566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n los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nteriores períodos de programación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los criterios empleados para la delimitación de las zonas con limitaciones naturales fuer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Arial Narrow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Zonas desfavorecidas de Montaña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xplotaciones agrarias con una combinación de los dos factores anteriores (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ltitud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y pendiente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Arial Narrow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Zonas con riesgo de despoblación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 Condiciones simultáneamen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sencia de tierras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oco productivas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Índices de caracterización económica agraria muy bajos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con respecto a la med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scasa densidad, o tendencia a la disminución, de la población 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que depende de la actividad agraria y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uya disminución implicaría la dificultad de mantenimiento de viabilidad la actividad económica y social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.   Zonas con dificultades especiales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on aquellas en las que las actividades productivas están limitadas para evitar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u impacto en el hábitat natural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Mantener en ellas la gestión de las tierras para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preservar o mejorar el medio ambiente</a:t>
            </a:r>
            <a:r>
              <a:rPr b="0" i="1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"/>
          <p:cNvSpPr/>
          <p:nvPr/>
        </p:nvSpPr>
        <p:spPr>
          <a:xfrm>
            <a:off x="0" y="0"/>
            <a:ext cx="9144000" cy="444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8 Rectángulo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ANTECED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sp>
        <p:nvSpPr>
          <p:cNvPr id="48" name="Rectángulo 2"/>
          <p:cNvSpPr/>
          <p:nvPr/>
        </p:nvSpPr>
        <p:spPr>
          <a:xfrm>
            <a:off x="646200" y="619200"/>
            <a:ext cx="78436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l artículo 32 “Designación de zonas con limitaciones naturales u otras limitaciones específicas “, del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lamento (UE) nº 1305/2013 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l Parlamento Europeo y del Consejo de 17 de diciembre de 2013 relativo a la ayuda al desarrollo rural a través del Fondo Europeo Agrícola de Desarrollo Rural (FEADER) y por el que se deroga el Reglamento (CE) nº 1698/2005 del Consejo, determina 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os Estados miembros designarán, sobre la base de los apartados 2, 3 y 4, las zonas que pueden optar a los pagos previstos en el artículo 31 de acuerdo con las siguientes categorí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70c0"/>
              </a:buClr>
              <a:buFont typeface="Arial Narro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 u="sng">
                <a:solidFill>
                  <a:srgbClr val="0070c0"/>
                </a:solidFill>
                <a:uFillTx/>
                <a:latin typeface="Arial Narrow"/>
                <a:ea typeface="Times New Roman"/>
              </a:rPr>
              <a:t>Zonas de montaña</a:t>
            </a:r>
            <a:r>
              <a:rPr b="1" i="1" lang="es-ES" sz="20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 (Submedida 13.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Arial Narro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70c0"/>
              </a:buClr>
              <a:buFont typeface="Arial Narro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 u="sng">
                <a:solidFill>
                  <a:srgbClr val="0070c0"/>
                </a:solidFill>
                <a:uFillTx/>
                <a:latin typeface="Arial Narrow"/>
                <a:ea typeface="Times New Roman"/>
              </a:rPr>
              <a:t>Zonas distintas de las de montaña con limitaciones naturales significativas</a:t>
            </a:r>
            <a:r>
              <a:rPr b="1" i="1" lang="es-ES" sz="20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 (Submedida 13.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70c0"/>
              </a:buClr>
              <a:buFont typeface="Arial Narro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70c0"/>
              </a:buClr>
              <a:buFont typeface="Arial Narro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 u="sng">
                <a:solidFill>
                  <a:srgbClr val="0070c0"/>
                </a:solidFill>
                <a:uFillTx/>
                <a:latin typeface="Arial Narrow"/>
                <a:ea typeface="Times New Roman"/>
              </a:rPr>
              <a:t>Otras zonas con limitaciones específicas</a:t>
            </a:r>
            <a:r>
              <a:rPr b="1" i="1" lang="es-ES" sz="20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 (Submedida 13.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"/>
          <p:cNvSpPr/>
          <p:nvPr/>
        </p:nvSpPr>
        <p:spPr>
          <a:xfrm>
            <a:off x="0" y="0"/>
            <a:ext cx="9144000" cy="444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8 Rectángulo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PROGRAMA OPERATIVO 2014-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sp>
        <p:nvSpPr>
          <p:cNvPr id="52" name="Rectángulo 2"/>
          <p:cNvSpPr/>
          <p:nvPr/>
        </p:nvSpPr>
        <p:spPr>
          <a:xfrm>
            <a:off x="523800" y="538200"/>
            <a:ext cx="8096400" cy="55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ODRÁN OPTAR A LOS PAG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Unidades Administrativas Locales </a:t>
            </a:r>
            <a:r>
              <a:rPr b="0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(LAU 2) o en el nivel de una unidad local claramente delimitada que cubra una sola zona geográfica contigua precisa, dotada de una identidad económica y administrativa que, 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l menos, el 60 % de la superficie agrícola</a:t>
            </a:r>
            <a:r>
              <a:rPr b="0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cumple, 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mo mínimo, uno </a:t>
            </a:r>
            <a:r>
              <a:rPr b="0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 los criterios enumerados en el anexo III del Reglamento 1305/2013. </a:t>
            </a:r>
            <a:r>
              <a:rPr b="1" lang="es-ES" sz="22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“AJUSTE GRUESO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os Estados miembros 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berán llevar a cabo una delimitación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Narrow"/>
                <a:ea typeface="Times New Roman"/>
              </a:rPr>
              <a:t>precisa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con arreglo a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Narrow"/>
                <a:ea typeface="Times New Roman"/>
              </a:rPr>
              <a:t>criterios objetivos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con el fin de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Narrow"/>
                <a:ea typeface="Times New Roman"/>
              </a:rPr>
              <a:t>excluir 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as zonas en que se hayan documentado limitaciones naturales significativas pero que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Narrow"/>
                <a:ea typeface="Times New Roman"/>
              </a:rPr>
              <a:t>hayan superado tales limitaciones como consecuencia de las inversiones o la actividad económica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 </a:t>
            </a:r>
            <a:r>
              <a:rPr b="1" lang="es-ES" sz="22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“AJUSTE FINO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"/>
          <p:cNvSpPr/>
          <p:nvPr/>
        </p:nvSpPr>
        <p:spPr>
          <a:xfrm>
            <a:off x="0" y="0"/>
            <a:ext cx="9144000" cy="444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8 Rectángulo"/>
          <p:cNvSpPr/>
          <p:nvPr/>
        </p:nvSpPr>
        <p:spPr>
          <a:xfrm>
            <a:off x="0" y="0"/>
            <a:ext cx="914400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ZONAS DISTINTAS DE LAS DE MONTAÑA CON LIMITACIONES NATURALES SIGNIFIC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2"/>
          <p:cNvSpPr/>
          <p:nvPr/>
        </p:nvSpPr>
        <p:spPr>
          <a:xfrm>
            <a:off x="0" y="606600"/>
            <a:ext cx="4211640" cy="36828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sp>
        <p:nvSpPr>
          <p:cNvPr id="57" name="Rectángulo 2"/>
          <p:cNvSpPr/>
          <p:nvPr/>
        </p:nvSpPr>
        <p:spPr>
          <a:xfrm>
            <a:off x="385920" y="1031760"/>
            <a:ext cx="85089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r>
              <a:rPr b="0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n el actual 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grama de Desarrollo Rural 2014-2020, Submedida 13.2 Pago de compensación para otras áreas que afrontan limitaciones naturales considerables</a:t>
            </a:r>
            <a:r>
              <a:rPr b="0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apartado 8.2.11.3.2.6. </a:t>
            </a:r>
            <a:r>
              <a:rPr b="0" i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ndiciones de admisibilidad</a:t>
            </a:r>
            <a:r>
              <a:rPr b="0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establec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“</a:t>
            </a:r>
            <a:r>
              <a:rPr b="0" i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n relación con las zona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gún lo establecido en el apartado 5 del artículo 31 del Reglamento (UE) 1305/2013, los Estados miembros aplicarán la nueva delimitación, </a:t>
            </a:r>
            <a:r>
              <a:rPr b="1" i="1" lang="es-ES" sz="22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a más tardar en 2018</a:t>
            </a:r>
            <a:r>
              <a:rPr b="0" i="1" lang="es-ES" sz="22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, </a:t>
            </a:r>
            <a:r>
              <a:rPr b="1" i="1" lang="es-ES" sz="22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mientras se continuará con la del período 2007-2013</a:t>
            </a:r>
            <a:r>
              <a:rPr b="0" i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; (…).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"/>
          <p:cNvSpPr/>
          <p:nvPr/>
        </p:nvSpPr>
        <p:spPr>
          <a:xfrm>
            <a:off x="0" y="0"/>
            <a:ext cx="9144000" cy="444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8 Rectángulo"/>
          <p:cNvSpPr/>
          <p:nvPr/>
        </p:nvSpPr>
        <p:spPr>
          <a:xfrm>
            <a:off x="0" y="0"/>
            <a:ext cx="914400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ZONAS DISTINTAS DE LAS DE MONTAÑA CON LIMITACIONES NATURALES SIGNIFIC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2"/>
          <p:cNvSpPr/>
          <p:nvPr/>
        </p:nvSpPr>
        <p:spPr>
          <a:xfrm>
            <a:off x="0" y="606600"/>
            <a:ext cx="4211640" cy="36828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628560" y="2763720"/>
          <a:ext cx="8266320" cy="2438640"/>
        </p:xfrm>
        <a:graphic>
          <a:graphicData uri="http://schemas.openxmlformats.org/drawingml/2006/table">
            <a:tbl>
              <a:tblPr/>
              <a:tblGrid>
                <a:gridCol w="1928880"/>
                <a:gridCol w="4383000"/>
                <a:gridCol w="1954440"/>
              </a:tblGrid>
              <a:tr h="3052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RITE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FINI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UMB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91512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ridez (o sequí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lación entre las precipitaciones anuales (P) y la evapotranspiración potencial anual (ETP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Arial Narrow"/>
                          <a:ea typeface="Times New Roman"/>
                        </a:rPr>
                        <a:t>P / ETP ≤ 0,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extura y dureza desfavorab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Elementos gruesos en el suelo (% volumétric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Arial Narrow"/>
                          <a:ea typeface="Times New Roman"/>
                        </a:rPr>
                        <a:t>≥ 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Arial Narrow"/>
                          <a:ea typeface="Times New Roman"/>
                        </a:rPr>
                        <a:t>1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ndiente escarpa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ambio de elevación respecto a la distancia planimétrica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Arial Narrow"/>
                          <a:ea typeface="Times New Roman"/>
                        </a:rPr>
                        <a:t>≥ 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Arial Narrow"/>
                          <a:ea typeface="Times New Roman"/>
                        </a:rPr>
                        <a:t>1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Rectangle 1"/>
          <p:cNvSpPr/>
          <p:nvPr/>
        </p:nvSpPr>
        <p:spPr>
          <a:xfrm>
            <a:off x="0" y="0"/>
            <a:ext cx="9144000" cy="444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8 Rectángulo"/>
          <p:cNvSpPr/>
          <p:nvPr/>
        </p:nvSpPr>
        <p:spPr>
          <a:xfrm>
            <a:off x="0" y="0"/>
            <a:ext cx="914400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ZONAS DISTINTAS DE LAS DE MONTAÑA CON LIMITACIONES NATURALES SIGNIFIC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2"/>
          <p:cNvSpPr/>
          <p:nvPr/>
        </p:nvSpPr>
        <p:spPr>
          <a:xfrm>
            <a:off x="0" y="606600"/>
            <a:ext cx="4211640" cy="36828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. AJUSTE GRU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ángulo 6"/>
          <p:cNvSpPr/>
          <p:nvPr/>
        </p:nvSpPr>
        <p:spPr>
          <a:xfrm>
            <a:off x="628560" y="1376280"/>
            <a:ext cx="826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a metodología empleada aparece desarrollada y justificada en el Marco Nacional,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adoptado por la Comisión el </a:t>
            </a:r>
            <a:r>
              <a:rPr b="1" lang="es-ES" sz="2000" spc="-1" strike="noStrike">
                <a:solidFill>
                  <a:srgbClr val="ff0000"/>
                </a:solidFill>
                <a:latin typeface="Arial Narrow"/>
                <a:ea typeface="Arial"/>
              </a:rPr>
              <a:t>día 13 de febrero de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pic>
        <p:nvPicPr>
          <p:cNvPr id="68" name="Imagen 2" descr=""/>
          <p:cNvPicPr/>
          <p:nvPr/>
        </p:nvPicPr>
        <p:blipFill>
          <a:blip r:embed="rId2"/>
          <a:stretch/>
        </p:blipFill>
        <p:spPr>
          <a:xfrm>
            <a:off x="7920" y="0"/>
            <a:ext cx="4438800" cy="3106800"/>
          </a:xfrm>
          <a:prstGeom prst="rect">
            <a:avLst/>
          </a:prstGeom>
          <a:ln w="0">
            <a:noFill/>
          </a:ln>
        </p:spPr>
      </p:pic>
      <p:pic>
        <p:nvPicPr>
          <p:cNvPr id="69" name="Imagen 3" descr=""/>
          <p:cNvPicPr/>
          <p:nvPr/>
        </p:nvPicPr>
        <p:blipFill>
          <a:blip r:embed="rId3"/>
          <a:stretch/>
        </p:blipFill>
        <p:spPr>
          <a:xfrm>
            <a:off x="4700520" y="0"/>
            <a:ext cx="4429080" cy="3106800"/>
          </a:xfrm>
          <a:prstGeom prst="rect">
            <a:avLst/>
          </a:prstGeom>
          <a:ln w="0">
            <a:noFill/>
          </a:ln>
        </p:spPr>
      </p:pic>
      <p:pic>
        <p:nvPicPr>
          <p:cNvPr id="70" name="Imagen 5" descr=""/>
          <p:cNvPicPr/>
          <p:nvPr/>
        </p:nvPicPr>
        <p:blipFill>
          <a:blip r:embed="rId4"/>
          <a:stretch/>
        </p:blipFill>
        <p:spPr>
          <a:xfrm>
            <a:off x="4700520" y="3147840"/>
            <a:ext cx="4443480" cy="3122640"/>
          </a:xfrm>
          <a:prstGeom prst="rect">
            <a:avLst/>
          </a:prstGeom>
          <a:ln w="0">
            <a:noFill/>
          </a:ln>
        </p:spPr>
      </p:pic>
      <p:pic>
        <p:nvPicPr>
          <p:cNvPr id="71" name="Imagen 7" descr=""/>
          <p:cNvPicPr/>
          <p:nvPr/>
        </p:nvPicPr>
        <p:blipFill>
          <a:blip r:embed="rId5"/>
          <a:stretch/>
        </p:blipFill>
        <p:spPr>
          <a:xfrm>
            <a:off x="0" y="3156120"/>
            <a:ext cx="4440240" cy="31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pic>
        <p:nvPicPr>
          <p:cNvPr id="73" name="Imagen 2" descr=""/>
          <p:cNvPicPr/>
          <p:nvPr/>
        </p:nvPicPr>
        <p:blipFill>
          <a:blip r:embed="rId2"/>
          <a:stretch/>
        </p:blipFill>
        <p:spPr>
          <a:xfrm>
            <a:off x="4737240" y="-6480"/>
            <a:ext cx="4406760" cy="3095640"/>
          </a:xfrm>
          <a:prstGeom prst="rect">
            <a:avLst/>
          </a:prstGeom>
          <a:ln w="0">
            <a:noFill/>
          </a:ln>
        </p:spPr>
      </p:pic>
      <p:pic>
        <p:nvPicPr>
          <p:cNvPr id="74" name="Imagen 4" descr=""/>
          <p:cNvPicPr/>
          <p:nvPr/>
        </p:nvPicPr>
        <p:blipFill>
          <a:blip r:embed="rId3"/>
          <a:stretch/>
        </p:blipFill>
        <p:spPr>
          <a:xfrm>
            <a:off x="0" y="3121200"/>
            <a:ext cx="4483080" cy="3149280"/>
          </a:xfrm>
          <a:prstGeom prst="rect">
            <a:avLst/>
          </a:prstGeom>
          <a:ln w="0">
            <a:noFill/>
          </a:ln>
        </p:spPr>
      </p:pic>
      <p:pic>
        <p:nvPicPr>
          <p:cNvPr id="75" name="Imagen 6" descr=""/>
          <p:cNvPicPr/>
          <p:nvPr/>
        </p:nvPicPr>
        <p:blipFill>
          <a:blip r:embed="rId4"/>
          <a:stretch/>
        </p:blipFill>
        <p:spPr>
          <a:xfrm>
            <a:off x="0" y="0"/>
            <a:ext cx="4483080" cy="3089160"/>
          </a:xfrm>
          <a:prstGeom prst="rect">
            <a:avLst/>
          </a:prstGeom>
          <a:ln w="0">
            <a:noFill/>
          </a:ln>
        </p:spPr>
      </p:pic>
      <p:pic>
        <p:nvPicPr>
          <p:cNvPr id="76" name="Imagen 7" descr=""/>
          <p:cNvPicPr/>
          <p:nvPr/>
        </p:nvPicPr>
        <p:blipFill>
          <a:blip r:embed="rId5"/>
          <a:stretch/>
        </p:blipFill>
        <p:spPr>
          <a:xfrm>
            <a:off x="4737240" y="3176640"/>
            <a:ext cx="4406760" cy="30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8913960" cy="63007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82"/>
          <p:cNvSpPr/>
          <p:nvPr/>
        </p:nvSpPr>
        <p:spPr>
          <a:xfrm>
            <a:off x="0" y="3619440"/>
            <a:ext cx="1838160" cy="64260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. AJUSTE GRU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5T21:03:59Z</dcterms:created>
  <dc:creator>Usuario</dc:creator>
  <dc:description/>
  <dc:language>en-US</dc:language>
  <cp:lastModifiedBy>Usuario</cp:lastModifiedBy>
  <dcterms:modified xsi:type="dcterms:W3CDTF">2017-06-20T08:12:32Z</dcterms:modified>
  <cp:revision>41</cp:revision>
  <dc:subject/>
  <dc:title>Presentación de PowerPoint</dc:title>
</cp:coreProperties>
</file>